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F7A8-7BA0-4767-A0A8-09AF3C34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7C94-9C92-43E7-8300-471B96E5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E53-3A14-4CE7-8F19-21C5F14F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659B-80DD-41DB-9CE0-78F37C6D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E548-6484-4348-9D8D-B9F0FAFF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80F0-302D-4455-96D4-85D00C5A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239C-D7E7-406D-A5BF-3801162B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EB4D-9253-4B03-8274-C510E9D1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3D2F-4065-4C1B-AAB2-E75CA34B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1E6B-214A-44D6-81A6-5E9B5040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1AF0-3DD2-4247-A44F-1439F423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609-0F06-465F-8A9D-FFAD47EE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9D5B-AABA-477B-A78B-4A88C475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9C84-3FAF-4C1B-A3EC-4B55B8BC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63D4-755C-4173-A960-0E8335AD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BB0F-2652-421A-894D-B43A5450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8063-19A6-483F-8228-56E83313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8F9-BFB7-4E36-AB62-FC898CE0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22A2-691F-4626-BAB7-0457960D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2F38-CBC9-4AAA-A4DB-92523B1F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51E-C281-4B88-B15D-2EA05A8D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90A9-84EA-4A1B-9D50-B2DC7EE7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D09-BC1B-4937-8F9A-AA364461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A865-1F12-4C18-8480-B8B4707A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092D-34D3-4480-8EF8-F2F5CD749F6A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FF1D-5521-4846-90BE-5D8D7DDFB3CF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B2DF-9318-4270-AD64-68793A6494A6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CA76-F680-4767-A0A2-119F12A4F53A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HISTORIA DEL ART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4923000" cy="309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8CBE-EFE3-459F-B230-402994CBC76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3366"/>
                </a:solidFill>
                <a:uFillTx/>
                <a:latin typeface="Times New Roman"/>
              </a:rPr>
              <a:t>1.-Clasifica la obra situándola en el tiempo y en el espacio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3" marL="1414440" indent="-226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Nombre de la o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3" marL="1414440" indent="-226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Estilo, cultu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3" marL="1414440" indent="-226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Localización cronológica y geográfica (siglo, país, ciudad, museo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3" marL="1414440" indent="-226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Auto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3366"/>
                </a:solidFill>
                <a:uFillTx/>
                <a:latin typeface="Times New Roman"/>
              </a:rPr>
              <a:t>2.-Analiza el contexto histórico-artístico en el que fue realizad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3" marL="1414440" indent="-226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El análisis de este apartado ha de tener en cuenta las características </a:t>
            </a:r>
            <a:r>
              <a:rPr b="1" lang="es-ES" sz="1200" spc="-1" strike="noStrike" u="sng">
                <a:solidFill>
                  <a:srgbClr val="003366"/>
                </a:solidFill>
                <a:uFillTx/>
                <a:latin typeface="Times New Roman"/>
              </a:rPr>
              <a:t>históricas,  culturales y</a:t>
            </a: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ES" sz="1200" spc="-1" strike="noStrike" u="sng">
                <a:solidFill>
                  <a:srgbClr val="003366"/>
                </a:solidFill>
                <a:uFillTx/>
                <a:latin typeface="Times New Roman"/>
              </a:rPr>
              <a:t>artísticas</a:t>
            </a: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 de la época y del lugar al que pertenece la obra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3" marL="1414440" indent="-226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Citar otras obras del mismo estilo, autor, época..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3366"/>
                </a:solidFill>
                <a:uFillTx/>
                <a:latin typeface="Times New Roman"/>
              </a:rPr>
              <a:t>3.-Análisis de aspectos descriptivos, formales y técnicos</a:t>
            </a: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En este apartado hay que tener en cuenta si estamos ante una obra de arquitectura, escultura o pintura y  después ir analizando los aspectos descriptivos, formales y técnicos propios de la cultura o estilo al que pertenezca. Culturas y estilos que iremos viendo en los sucesivos temas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Muy importante es emplear un vocabulario específico con precisión y rigo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3366"/>
                </a:solidFill>
                <a:uFillTx/>
                <a:latin typeface="Times New Roman"/>
              </a:rPr>
              <a:t>4.- Aspectos de significado y contenido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En este apartado se comentan aquellos significados que nos transmite la obra de arte. Ya que la obra de arte pertenece a un época, se realiza en un contexto, estos significados están relacionados con el momento histórico en el que el autor la realizó, así como también con las circunstancias personales y colectivas del auto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Pautas para el análisis y 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mentario de una lámin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97E-3B92-432B-8702-8FD9060CA1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172200" y="2057400"/>
            <a:ext cx="1774800" cy="10954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62160" y="609120"/>
            <a:ext cx="478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Pautas para el análisis y comentario de una lámin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791320" cy="9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800000"/>
                </a:solidFill>
                <a:uFillTx/>
                <a:latin typeface="Times New Roman"/>
              </a:rPr>
              <a:t>1.-Clasifica la obra situándola en el tiempo y en el espaci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Times New Roman"/>
              </a:rPr>
              <a:t>Nombre de la obr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Times New Roman"/>
              </a:rPr>
              <a:t>Estilo, cultur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Times New Roman"/>
              </a:rPr>
              <a:t>Localización cronológica y geográfica (siglo, país, ciudad, museo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Times New Roman"/>
              </a:rPr>
              <a:t>Auto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91320" y="3124080"/>
            <a:ext cx="3124080" cy="1051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Bisonte de Altamir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Arte rupestre Franco-Cantábrico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Entre 13.000 y 14.000 años a. C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Paleolítico Superio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Cueva de Altamira. Santillana del Mar (Cantabria)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Homo sapien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F13-7FD7-4C96-9898-AC71368C6D84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Pautas para el análisis y comentario de una lámina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800000"/>
                </a:solidFill>
                <a:uFillTx/>
                <a:latin typeface="Times New Roman"/>
              </a:rPr>
              <a:t>2.-Analiza el contexto histórico-artístico en el que fue realizad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Times New Roman"/>
              </a:rPr>
              <a:t>El análisis de este apartado ha de tener en cuenta las características </a:t>
            </a:r>
            <a:r>
              <a:rPr b="1" lang="es-ES" sz="1800" spc="-1" strike="noStrike" u="sng">
                <a:solidFill>
                  <a:srgbClr val="800000"/>
                </a:solidFill>
                <a:uFillTx/>
                <a:latin typeface="Times New Roman"/>
              </a:rPr>
              <a:t>históricas,  culturales y</a:t>
            </a:r>
            <a:r>
              <a:rPr b="0" lang="es-ES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s-ES" sz="1800" spc="-1" strike="noStrike" u="sng">
                <a:solidFill>
                  <a:srgbClr val="800000"/>
                </a:solidFill>
                <a:uFillTx/>
                <a:latin typeface="Times New Roman"/>
              </a:rPr>
              <a:t>artísticas</a:t>
            </a:r>
            <a:r>
              <a:rPr b="0" lang="es-ES" sz="1800" spc="-1" strike="noStrike">
                <a:solidFill>
                  <a:srgbClr val="800000"/>
                </a:solidFill>
                <a:latin typeface="Times New Roman"/>
              </a:rPr>
              <a:t> de la época y del lugar al que pertenece la obra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Times New Roman"/>
              </a:rPr>
              <a:t>Citar otras obras del mismo estilo, autor, época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7960" y="2214360"/>
            <a:ext cx="4267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Paleolítico Superior</a:t>
            </a:r>
            <a:r>
              <a:rPr b="0" i="1" lang="es-ES" sz="1200" spc="-1" strike="noStrike" u="sng">
                <a:solidFill>
                  <a:srgbClr val="003366"/>
                </a:solidFill>
                <a:uFillTx/>
                <a:latin typeface="Times New Roman"/>
              </a:rPr>
              <a:t>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El hombre del Paleolítico es nómada y depredador, vive     de la caza y depende de los animales para su subsistencia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Se refugia del frío en las cuevas. Estas pinturas se     encuentran en el fondo de estas cuevas, en las paredes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Al conjunto de estas pinturas se le conoce con el nombre de: Arte rupestre franco-cantábrico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Representa sobre todo animales aislados y  de  manera naturalista con efectos de relieve y profundidad. Aprovecha para ello el relieve de la roca y la intensidad del color. El color lo obtiene mediante pigmentos y tierras naturales. Predominan el rojo, ocre, amarillo. Como aglutinante, las grasa de los animales. Pintan con los dedos o con pinceles de pelos de animales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Norte de la Península Ibérica y sur de Francia (Altammira, El Castillo,Cándamo, Lascaux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4343400"/>
            <a:ext cx="1366920" cy="124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3" name=""/>
          <p:cNvGraphicFramePr/>
          <p:nvPr/>
        </p:nvGraphicFramePr>
        <p:xfrm>
          <a:off x="152280" y="3124080"/>
          <a:ext cx="1863720" cy="12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3124080"/>
                    <a:ext cx="186372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1981080" y="609480"/>
            <a:ext cx="1328760" cy="12477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380880" y="152280"/>
            <a:ext cx="1320840" cy="1737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3546-0AB9-4DBB-B450-CBDDE33FDB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autas para el análisis y comentario de una lámin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800000"/>
                </a:solidFill>
                <a:uFillTx/>
                <a:latin typeface="Times New Roman"/>
              </a:rPr>
              <a:t>3.-Análisis de aspectos descriptivos, formales y técnicos</a:t>
            </a:r>
            <a:r>
              <a:rPr b="0" lang="es-ES" sz="28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800000"/>
                </a:solidFill>
                <a:latin typeface="Times New Roman"/>
              </a:rPr>
              <a:t>En este apartado hay que tener en cuenta si estamos ante una obra de arquitectura, escultura o pintura y  después ir analizando los aspectos descriptivos, formales y técnicos propios de la cultura o estilo al que pertenezca. Culturas y estilos que iremos viendo en los sucesivos tema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00"/>
                </a:solidFill>
                <a:latin typeface="Times New Roman"/>
              </a:rPr>
              <a:t>Muy importante es emplear un vocabulario específico con precisión y rigo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00"/>
                </a:solidFill>
                <a:latin typeface="Times New Roman"/>
              </a:rPr>
              <a:t>En este caso es una pintur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57600" y="5715000"/>
            <a:ext cx="243828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EB6-17A6-44AF-A374-D00C3676F8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autas para el análisis y comentario de una lámin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Es una pintura</a:t>
            </a:r>
            <a:r>
              <a:rPr b="0" i="1" lang="es-ES" sz="1600" spc="-1" strike="noStrike" u="sng">
                <a:solidFill>
                  <a:srgbClr val="003366"/>
                </a:solidFill>
                <a:uFillTx/>
                <a:latin typeface="Times New Roman"/>
              </a:rPr>
              <a:t> parieta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La obra representa un animal típico de la época glaciar. Es un bisonte. Está de pie y se aprecia el</a:t>
            </a:r>
            <a:r>
              <a:rPr b="0" i="1" lang="es-ES" sz="1600" spc="-1" strike="noStrike" u="sng">
                <a:solidFill>
                  <a:srgbClr val="003366"/>
                </a:solidFill>
                <a:uFillTx/>
                <a:latin typeface="Times New Roman"/>
              </a:rPr>
              <a:t> naturalismo 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on el que ha sido representado tanto en el color como en las proporciones, volumen..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Los colores utilizados son el negro, ocres, rojos castaños. La figura aparece con el contorno señalado mediante el grabado y el color negr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El volumen lo consiguen degradando el colo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Aprovechan los salientes de las rocas para crear ilusión de  profund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La figura aparece aislada sin formar conjunto con las otras figuras que la rodean, sin referencia espacial, como si estuviera flotand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863960" y="2949480"/>
            <a:ext cx="3903840" cy="240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AAD9-5DDD-4A5D-AA4E-C2762F5FF2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autas para el análisis y comentario de una lámin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0100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800000"/>
                </a:solidFill>
                <a:uFillTx/>
                <a:latin typeface="Times New Roman"/>
              </a:rPr>
              <a:t>Aspectos de significado y conteni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00"/>
                </a:solidFill>
                <a:latin typeface="Times New Roman"/>
              </a:rPr>
              <a:t>En este apartado se comentan aquellos significados que nos transmite la obra de arte. Ya que la obra de arte pertenece a un época, se realiza en un contexto, estos significados están relacionados con el momento histórico en el que el autor la realizó, así como también con las circunstancias personales y colectivas del auto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9880" y="5257800"/>
            <a:ext cx="18288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8521-64DA-4EE9-A028-0724945883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autas para el análisis y comentario de una lámin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067280" cy="38811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800000"/>
                </a:solidFill>
                <a:uFillTx/>
                <a:latin typeface="Times New Roman"/>
              </a:rPr>
              <a:t>Análisis de aspectos de contenido y  significado de la obra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Times New Roman"/>
              </a:rPr>
              <a:t>El </a:t>
            </a:r>
            <a:r>
              <a:rPr b="0" i="1" lang="es-ES" sz="1600" spc="-1" strike="noStrike" u="sng">
                <a:solidFill>
                  <a:srgbClr val="800000"/>
                </a:solidFill>
                <a:uFillTx/>
                <a:latin typeface="Times New Roman"/>
              </a:rPr>
              <a:t>naturalismo </a:t>
            </a:r>
            <a:r>
              <a:rPr b="0" lang="es-ES" sz="1600" spc="-1" strike="noStrike">
                <a:solidFill>
                  <a:srgbClr val="800000"/>
                </a:solidFill>
                <a:latin typeface="Times New Roman"/>
              </a:rPr>
              <a:t>con el que ha sido representado y el lugar ( al fondo de la cueva), ha hecho que algunos teóricos hayan visto en estas pinturas un significado mágico-religioso. Las representaciones de animales, serían un medio de captar su imagen y de esa forma propiciar la caza y la fecundidad. Es decir, asegurar la preservación de la especie en unas circunstancias difíci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334120" y="3276720"/>
            <a:ext cx="2900160" cy="19335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Times New Roman"/>
              </a:rPr>
              <a:t>Bisonte Altamir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659B-299E-4FD4-9C75-131C6B2BA6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Términ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00"/>
                </a:solidFill>
                <a:latin typeface="Times New Roman"/>
              </a:rPr>
              <a:t>En todos los exámenes hay que definir  términos relacionados con la materia y explicados en el desarrollo del tem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00"/>
                </a:solidFill>
                <a:latin typeface="Times New Roman"/>
              </a:rPr>
              <a:t>Es importante acompañar la definición con ejempl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800000"/>
                </a:solidFill>
                <a:uFillTx/>
                <a:latin typeface="Times New Roman"/>
              </a:rPr>
              <a:t>Parietal, Rupestre, Naturalismo</a:t>
            </a:r>
            <a:r>
              <a:rPr b="0" lang="es-ES" sz="2400" spc="-1" strike="noStrike">
                <a:solidFill>
                  <a:srgbClr val="800000"/>
                </a:solidFill>
                <a:latin typeface="Times New Roman"/>
              </a:rPr>
              <a:t> son términos que han aparecido en esta introduc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Ejemplo: </a:t>
            </a:r>
            <a:r>
              <a:rPr b="0" i="1" lang="es-ES" sz="2400" spc="-1" strike="noStrike" u="sng">
                <a:solidFill>
                  <a:srgbClr val="003366"/>
                </a:solidFill>
                <a:uFillTx/>
                <a:latin typeface="Times New Roman"/>
              </a:rPr>
              <a:t>Parietal</a:t>
            </a: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 : pintura realizada sobre las paredes de las cuevas en el Paleolítico Superior, por ejemplo: las pinturas de las cuevas de Altamir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3943-E4ED-4CF6-A2B2-669C2DEA3A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riano</cp:lastModifiedBy>
  <dcterms:modified xsi:type="dcterms:W3CDTF">2008-10-18T10:23:25Z</dcterms:modified>
  <cp:revision>25</cp:revision>
  <dc:subject/>
  <dc:title>Presentación de PowerPoint</dc:title>
</cp:coreProperties>
</file>